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C5F-2B69-42D9-AD64-BF0A03FD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898-EFB3-42A9-9162-2ECEC67A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B39-F6BB-45FF-8C10-63B1882E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00E-4015-4AB8-A390-EBAA26BC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0868-7140-4A28-A816-EBA13227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FDA2-F712-481D-A824-4D65F03D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7890-94AD-4A76-BFA8-4370A7A3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0463-D265-4DC3-9ADF-59C9BEEF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BD8F-547C-4869-B488-37D44E67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3218-F2B9-45CE-8A0C-84E6815E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19FF-77CD-4947-B21F-2A2CEE35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5B5-DCCC-4FAC-A26A-6879465F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3ACC-9564-46B2-86BD-D2EA01BC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648B-66A6-472E-816F-70CAFCBB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07E2-548B-4B2B-9188-D34BB2F3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AD2C-9730-491F-A61D-638FBD87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4D94-A16D-4173-9B86-5012D5B8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92AF-D466-484E-8F1B-D08F9F8E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A3A6-DB16-4FF1-9FC7-2BB442D7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193BC-9DCE-4FD2-BF21-051F239F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7DF0-B7E7-405A-BA12-3D9E6E19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FE2F-6425-4B31-9F3E-132ACC45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1D8-0520-4E5F-9D45-84D230D7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07728-2626-44AB-89CA-B2C4B984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577EC-6AD1-44D8-9D5C-2C35C4E0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65B7-1CFB-41F0-B10E-142B336C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E303-71B4-4415-A3EF-87CF3C6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B533-8C7D-4950-9898-0660501B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09DDC-F610-42CC-952D-A38F17B5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D2D3-F4DA-4D50-9260-E37D7FBB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01DC-1761-4715-88C6-4C7AAB58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5B61A-52F8-49E7-9D04-0FAD8155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B2C6-50D7-4F0A-B457-3F4F38EE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F16-99C3-4F20-9C15-05B55791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A37C0-A3F8-4570-84D0-B72354DF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3F35F-8146-4681-92EA-A50DAC61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2485-106E-40E6-8E12-780980E6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BC932-C52B-409C-9BB4-D632851A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A7D04-85CB-4977-8B4C-D446B9E7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D940-DDCC-4633-A4C1-5C527916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B012A-6141-455B-927F-9DF89E23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80BFF-F0E5-4D26-B027-8AA4A048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4B4A-F87C-48CC-9E53-CAD7A352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6A6-2AF5-4CCF-8B86-1F0E60BC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BF0-9019-4D67-80B1-C9B539AE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2FB-39F0-4224-BE62-896483C6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DFF-23E7-45E8-9D0F-0778A371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453-5184-4697-9C96-79AEEE18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6683-09B8-4CC2-AF0A-4F286B9FADB5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51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E945-27A6-4898-984E-DC227A987DD1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98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47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09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16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2FCE-B207-42B4-8569-EECBAB62E77F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63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4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1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3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74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381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7291-7789-4B82-9D2A-5B0302434BCD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PSICHOLOGIJOS </a:t>
            </a:r>
            <a:r>
              <a:rPr b="0" lang="lt-LT" sz="4000" spc="-1" strike="noStrike">
                <a:solidFill>
                  <a:srgbClr val="330033"/>
                </a:solidFill>
                <a:latin typeface="Times New Roman"/>
              </a:rPr>
              <a:t>TYRIMŲ </a:t>
            </a: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METODAI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etap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klausimas,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uojama hipote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rinkimo būdo planavimas – tyrimo technikos ir strategijos pasi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atlikima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duomenų su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analiz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vadų dary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technikos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ebė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klausos (žodžiu, raš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TVEJO ANALIZĖ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no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r keli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vej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r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sa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ng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rantant retus atve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astas reprezentat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alizavimo sunku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lus darbui ir laik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jo šališ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STEBĖJ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rganizuotas, tikslingas tam tikrų reiškinių suvo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etarpišku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 aplin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gali verbaliai išreikšti to, ko reik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nori kalbėt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alimybė atsižvelgti į natūralų kontekst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Išorinio stebėjimo tipai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neįsikišant/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omis sąlygom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įsikiša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ksperimentinis/laboratorinis stebėj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ruktūruotas/išprovokuota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ebėjimas dalyvauj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linikini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APKLAUSOS ir jų form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ruktūruotas/laisvas/pusiau struktūruotas pokal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štu/žodž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iri/uždari klausimai, Likert’o tipo ska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Apklausų trūku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noras atsakyti, sąmoningai nuslėp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o pageidaujamumo reiškin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flektyvumo st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įtaka praeities įvykių atgamin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usimo nesupra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stav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LAUSIMY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STAVIMAS (nor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estų rūš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Žini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Bendrųjų gebėjim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Intelekto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Asmenybės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Projekciniai testai (Rorschachas, HTP, kinetinis šeimos piešinys, papildymo metodikos, spalvų testai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JOS TYRI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sichologijos ša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tyrimo srit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az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Taikomiej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ję su psichologijos instrument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ju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kintamųjų pobūd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ie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o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Bendrieji tyrimo tiksl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raš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aišk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mat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ntroliuo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er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Sąvokos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techn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 empirinių duomenų rinkimo būd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vz., testai, steb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ėjimas, apklau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r kt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rimo strate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 bendras tyrimo planas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aprašomoji, koreliacinė ir eksperimentin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metod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konkreti empirinių duomenų rinkimo ir jų registravimo procedūra, tiksliai nurodanti visas tyrimo sąlygas ir atliekamų veiksmų eig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Rorschacho, HT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1 ir kt.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Tyrimo strategijo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om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perimentin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ORELIAC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tato ryšį tarp dviejų ar daugiau veiksni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urodo pri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ingu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igiama koreliac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igiama koreliac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jos koeficien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+/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EKSPERIMENT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ekiama nustatyti ir paaiškinti ryšio tarp nepriklausomo ir priklausomo kintamojo pobūd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as gali iškreipti rezultatus?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ankos kompon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bo efek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ai fenomenas, kai žmogaus reakciją į gydymą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oveikį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mia ne pats gydymas, o laukima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sperimentatoriaus šališku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nių tyrimų pvz:  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1:26:52Z</dcterms:created>
  <dc:creator>SPPS2</dc:creator>
  <dc:description/>
  <dc:language>en-US</dc:language>
  <cp:lastModifiedBy> </cp:lastModifiedBy>
  <dcterms:modified xsi:type="dcterms:W3CDTF">2007-08-29T12:38:26Z</dcterms:modified>
  <cp:revision>28</cp:revision>
  <dc:subject/>
  <dc:title>PSICHOLOGIJOS METODAI</dc:title>
</cp:coreProperties>
</file>